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36E-0004-4ED6-8A57-C82D699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977-0BAD-49C9-9322-D817250E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7BE-1FCA-44CD-BA9E-ED04CB94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DA7-A8CF-41A9-A3FB-831E605E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6CE-7816-4CFB-8BC7-4E306EA1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504-642B-45A5-BA07-135158AE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570-01EF-4050-96AE-BA26DA1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C2B-4E7A-4251-92F1-87B1A0C2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199-C7B1-4467-8007-3B373F5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0D1-74FC-476B-B866-4CA6471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FF6-7231-42C7-960F-7963B1D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79E-F7BA-4E74-B856-C07A005D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C636-B1FB-4773-8318-D34C77E60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mallblueprinter.com/garden/planner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" name="WordArt 45"/>
          <p:cNvSpPr txBox="1"/>
          <p:nvPr/>
        </p:nvSpPr>
        <p:spPr>
          <a:xfrm>
            <a:off x="533520" y="1905120"/>
            <a:ext cx="8076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eaeaea">
                      <a:alpha val="0"/>
                    </a:srgbClr>
                  </a:outerShdw>
                </a:effectLst>
                <a:latin typeface="Times New Roman"/>
              </a:rPr>
              <a:t>Grădina mea de v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eaeaea">
                    <a:alpha val="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46"/>
          <p:cNvSpPr/>
          <p:nvPr/>
        </p:nvSpPr>
        <p:spPr>
          <a:xfrm>
            <a:off x="380880" y="5577120"/>
            <a:ext cx="87631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la premisa ca orice produs al naturii sau al artei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( frumosului în gener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ste supus ordinii matemat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09480" y="457200"/>
            <a:ext cx="525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egume:R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mbul verdeţurilor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u diagonalele: 19m şi 9m (salată, mărar şi pătrunj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erdea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1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acă distanţa între plante este 25cm atunci recolta este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0.0625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68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p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legume"/>
          <p:cNvPicPr/>
          <p:nvPr/>
        </p:nvPicPr>
        <p:blipFill>
          <a:blip r:embed="rId2"/>
          <a:stretch/>
        </p:blipFill>
        <p:spPr>
          <a:xfrm>
            <a:off x="5715000" y="609480"/>
            <a:ext cx="3254400" cy="32767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7"/>
          <p:cNvSpPr/>
          <p:nvPr/>
        </p:nvSpPr>
        <p:spPr>
          <a:xfrm>
            <a:off x="228600" y="31240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85800" y="297180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iunghiurile rădăcinoaselor- echilaterale cu baza de 10 m şi înălţimea de 8.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adacinoa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(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,5) / 2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85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228600" y="44956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838080" y="457200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bul tomatelor are suprafaţa egală cu cel al verdeţu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om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 unde obţin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,5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4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kg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to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62120" y="5410080"/>
            <a:ext cx="8153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iunghiurile diverselor legume sunt dreptunghice cu catetele de: 6m şi 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iver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9 / 2 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7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că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2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4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 legum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04920" y="54100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152280" y="5335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/>
          <p:cNvSpPr/>
          <p:nvPr/>
        </p:nvSpPr>
        <p:spPr>
          <a:xfrm>
            <a:off x="228600" y="3049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joaca"/>
          <p:cNvPicPr/>
          <p:nvPr/>
        </p:nvPicPr>
        <p:blipFill>
          <a:blip r:embed="rId2"/>
          <a:stretch/>
        </p:blipFill>
        <p:spPr>
          <a:xfrm>
            <a:off x="4753080" y="0"/>
            <a:ext cx="4390920" cy="4400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609480" y="228600"/>
            <a:ext cx="411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dihnă şi joac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Ga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raj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er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flor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is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– 180 – 21 - 28-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 - 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7 - 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z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10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0948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iscin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5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65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09480" y="3200400"/>
            <a:ext cx="4114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Rombul rozelo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are diagonalele de 10m şi 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oz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6 / 2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0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426708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fructe_legum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+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erdea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radacinoa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oma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divers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oz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253 + 128 +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71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+  85 +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0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1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762120" y="5105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uprafaţa cultivată reprezint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% din terenul disponib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uprafaţa destinată sportului şi odihnei reprezintă 35,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38080" y="5867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Grădina mult visat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este verde în procent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304920" y="2895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04920" y="33526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304920" y="5181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8056440" cy="43974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33520" y="380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faţă avem o figură plină de armonie şi echilib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un tot bine proporţionat, ceva care-ţi face plăcere, fiindcă-i frumos, sănătos şi u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457200" y="5715000"/>
            <a:ext cx="84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ceasta este “Grădina mea de vis” -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loc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mă ajută să trăiesc sănătos, să-mi refac relaţia cu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09480" y="2819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dina-onlin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9040" y="32767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dinamea.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88320" y="373392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ulteplante.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64280" y="41911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eminte.d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91440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Surse de infor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09480" y="1066680"/>
            <a:ext cx="754380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n Brânuei, Anton Negrilă şi Maria Negrilă – Mate 2000+1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urcitu G.,N.Ghiciu (2008)editura:Radical Matematica –manual clasa V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lorica T. Câmpan – Variate aplicaţii ale matemati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3886200" y="4648320"/>
            <a:ext cx="47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CH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AN MIRAB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ÂRBACEA MARIN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U EMAN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ŞERBAN ANDREE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IŞ MĂDĂ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OVASTRU SIMON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AT DAN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1"/>
          <p:cNvSpPr/>
          <p:nvPr/>
        </p:nvSpPr>
        <p:spPr>
          <a:xfrm>
            <a:off x="2971800" y="48006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1920" y="2437560"/>
            <a:ext cx="55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mallblueprinter.com/garden/planner.htm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5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500"/>
                            </p:stCondLst>
                            <p:childTnLst>
                              <p:par>
                                <p:cTn id="7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9500"/>
                            </p:stCondLst>
                            <p:childTnLst>
                              <p:par>
                                <p:cTn id="7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>
            <a:off x="914400" y="1676520"/>
            <a:ext cx="678168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e poate ajuta matematica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ă creezi un colţ verde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38080" y="5028120"/>
            <a:ext cx="784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ul din succesele frumosului st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 men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erea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preun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 geometriei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 a gra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ei, a calitativului 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 cantitavului.</a:t>
            </a:r>
            <a:r>
              <a:rPr b="0" lang="ro-RO" sz="24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33520" y="6829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ouă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elor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locu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mediul urba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onstrucţiile din beton, şoselele şi trotuarele ne-au invadat viaţ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rel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noastr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u natura este limita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 experie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 pe care le avem doar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vaca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, departe de ora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296964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ste nevoie ca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lul natural –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â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nt-plante-anima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italizat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cest lucru se poate face şi 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curtea  din spatele cas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85800" y="44935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Astăzi ne vedem obligaţi să găsim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lternativele creative, prin care sa ne cre</a:t>
            </a:r>
            <a:r>
              <a:rPr b="0" lang="ro-RO" sz="2400" spc="-1" strike="noStrike">
                <a:solidFill>
                  <a:srgbClr val="006600"/>
                </a:solidFill>
                <a:latin typeface="Times New Roman"/>
              </a:rPr>
              <a:t>ş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em singuri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hrana s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as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ă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anl3-Cta"/>
          <p:cNvPicPr/>
          <p:nvPr/>
        </p:nvPicPr>
        <p:blipFill>
          <a:blip r:embed="rId2"/>
          <a:stretch/>
        </p:blipFill>
        <p:spPr>
          <a:xfrm>
            <a:off x="5715000" y="762120"/>
            <a:ext cx="281952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2025613970106669430S600x600Q85"/>
          <p:cNvPicPr/>
          <p:nvPr/>
        </p:nvPicPr>
        <p:blipFill>
          <a:blip r:embed="rId3"/>
          <a:stretch/>
        </p:blipFill>
        <p:spPr>
          <a:xfrm>
            <a:off x="5715000" y="3733920"/>
            <a:ext cx="289548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asa"/>
          <p:cNvPicPr/>
          <p:nvPr/>
        </p:nvPicPr>
        <p:blipFill>
          <a:blip r:embed="rId4"/>
          <a:stretch/>
        </p:blipFill>
        <p:spPr>
          <a:xfrm>
            <a:off x="5715000" y="76212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55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55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6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2590920" y="914400"/>
            <a:ext cx="3962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SPRE AR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62120" y="228600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ria triunghiului: semiprodusul dintre bază şi înălţimea corespunzăt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400800" y="1905120"/>
            <a:ext cx="1676520" cy="152388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7238880" y="1905120"/>
            <a:ext cx="0" cy="15238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5800" y="35812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. Aria paralelogramului:produsul dintre bază şi înăl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5638680" y="3886200"/>
            <a:ext cx="2667240" cy="533520"/>
          </a:xfrm>
          <a:prstGeom prst="parallelogram">
            <a:avLst>
              <a:gd name="adj" fmla="val 12498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6324480" y="3886200"/>
            <a:ext cx="0" cy="5335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762120" y="49528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3. Aria dreptunghiului: produsul dintre lungime şi lă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>
            <a:off x="5638680" y="4419720"/>
            <a:ext cx="20574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486400" y="5105520"/>
            <a:ext cx="2743200" cy="8380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5486400" y="5105520"/>
            <a:ext cx="0" cy="8380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5486400" y="5943600"/>
            <a:ext cx="27432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4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34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340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4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505320" y="60948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R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9810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4. Aria rombului: semiprodusul diagonalelor sau produsul bazei cu înălţim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5638680" y="1219320"/>
            <a:ext cx="990720" cy="1981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7238880" y="1143000"/>
            <a:ext cx="990720" cy="198108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095880" y="1219320"/>
            <a:ext cx="0" cy="19810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5638680" y="2209680"/>
            <a:ext cx="9907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238880" y="2133720"/>
            <a:ext cx="533520" cy="99036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H="1">
            <a:off x="7467120" y="2133720"/>
            <a:ext cx="762120" cy="45720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33520" y="3657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5. Aria pătratului: pătratul laturii sau semiprodusul diagonal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5410080" y="3429000"/>
            <a:ext cx="1143000" cy="1066680"/>
          </a:xfrm>
          <a:prstGeom prst="rect">
            <a:avLst/>
          </a:prstGeom>
          <a:solidFill>
            <a:srgbClr val="0033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410080" y="4495680"/>
            <a:ext cx="114300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7010280" y="3429000"/>
            <a:ext cx="1143000" cy="1066680"/>
          </a:xfrm>
          <a:prstGeom prst="rect">
            <a:avLst/>
          </a:prstGeom>
          <a:solidFill>
            <a:srgbClr val="0033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10280" y="3429000"/>
            <a:ext cx="1143000" cy="10666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 flipH="1">
            <a:off x="7009920" y="3429000"/>
            <a:ext cx="1143000" cy="106668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6858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6. Aria trapezului: semiprodusul dintre suma bazelor şi înălţ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10800000">
            <a:off x="5638680" y="5029200"/>
            <a:ext cx="2362320" cy="990720"/>
          </a:xfrm>
          <a:prstGeom prst="pi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6324480" y="5029200"/>
            <a:ext cx="0" cy="99072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5638680" y="6019920"/>
            <a:ext cx="23623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6324480" y="5029200"/>
            <a:ext cx="99072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0"/>
          <p:cNvGrpSpPr/>
          <p:nvPr/>
        </p:nvGrpSpPr>
        <p:grpSpPr>
          <a:xfrm>
            <a:off x="1828800" y="1676520"/>
            <a:ext cx="5486400" cy="3644640"/>
            <a:chOff x="1828800" y="1676520"/>
            <a:chExt cx="5486400" cy="3644640"/>
          </a:xfrm>
        </p:grpSpPr>
        <p:sp>
          <p:nvSpPr>
            <p:cNvPr id="85" name="AutoShape 5"/>
            <p:cNvSpPr/>
            <p:nvPr/>
          </p:nvSpPr>
          <p:spPr>
            <a:xfrm>
              <a:off x="2209680" y="1905120"/>
              <a:ext cx="4800600" cy="3047760"/>
            </a:xfrm>
            <a:prstGeom prst="octagon">
              <a:avLst>
                <a:gd name="adj" fmla="val 2928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190512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7010280" y="39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6019920" y="4876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2895480" y="4952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182880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2895480" y="1676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7"/>
            <p:cNvSpPr/>
            <p:nvPr/>
          </p:nvSpPr>
          <p:spPr>
            <a:xfrm>
              <a:off x="6095880" y="1752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8"/>
            <p:cNvSpPr/>
            <p:nvPr/>
          </p:nvSpPr>
          <p:spPr>
            <a:xfrm>
              <a:off x="7010280" y="26668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WordArt 4"/>
          <p:cNvSpPr txBox="1"/>
          <p:nvPr/>
        </p:nvSpPr>
        <p:spPr>
          <a:xfrm>
            <a:off x="1981080" y="1143000"/>
            <a:ext cx="5410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ria unei suprafeţe poligonal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209680" y="4038480"/>
            <a:ext cx="3886200" cy="91440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2209680" y="4038480"/>
            <a:ext cx="48006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2209680" y="2819520"/>
            <a:ext cx="4800600" cy="12189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2209680" y="1905120"/>
            <a:ext cx="3886200" cy="2133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209680" y="1905120"/>
            <a:ext cx="914400" cy="213336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457200" y="525780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BCDEFG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C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E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F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A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685800" y="1066680"/>
            <a:ext cx="51055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erenul are formă dreptunghiulară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=6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m şi l=3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e suprafaţă de teren av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6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= 2046 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e teren se construieş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casă dreptunghiular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 = 15m şi l= 1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 =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2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0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un garaj: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=7m şi l=3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garaj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=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1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o alee: L= 7m şi l=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=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4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8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plan"/>
          <p:cNvPicPr/>
          <p:nvPr/>
        </p:nvPicPr>
        <p:blipFill>
          <a:blip r:embed="rId2"/>
          <a:stretch/>
        </p:blipFill>
        <p:spPr>
          <a:xfrm>
            <a:off x="5867280" y="1143000"/>
            <a:ext cx="304488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2590920" y="685800"/>
            <a:ext cx="3581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ădina visată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609480" y="6172200"/>
            <a:ext cx="5181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ce suprafaţă dispun pentru grădina visată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over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762120" y="228600"/>
            <a:ext cx="7315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gradin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cas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garaj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Times New Roman"/>
              </a:rPr>
              <a:t>ale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rad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046 – ( 180 + 21 + 28 )   = 2046 – 229 = 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1219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 de amenaj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g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di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181480" y="1219320"/>
            <a:ext cx="609840" cy="4572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09480" y="1676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Trebuie sa împrejmuiesc terenul cu g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 viu plantat p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ouă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rând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9480" y="2133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Grădina mea are o poartă de 7 m lung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uieţii se plantează la o distanţă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 cm.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Preţul unui răsad este de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0.99 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sovenyult2"/>
          <p:cNvPicPr/>
          <p:nvPr/>
        </p:nvPicPr>
        <p:blipFill>
          <a:blip r:embed="rId2"/>
          <a:stretch/>
        </p:blipFill>
        <p:spPr>
          <a:xfrm>
            <a:off x="6019920" y="2286000"/>
            <a:ext cx="2819160" cy="1184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304920" y="40384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o-RO" sz="2400" spc="-1" strike="noStrike" baseline="-25000">
                <a:solidFill>
                  <a:srgbClr val="000000"/>
                </a:solidFill>
                <a:latin typeface="Times New Roman"/>
              </a:rPr>
              <a:t>tere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l - L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oar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62 +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33 – 7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228600" y="175248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33520" y="3200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este necesarul de puieţ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are este bugetul de care avem nevoie pentru gardul vi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28600" y="4495680"/>
            <a:ext cx="74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Numar</a:t>
            </a:r>
            <a:r>
              <a:rPr b="1" lang="ro-RO" sz="2400" spc="-1" strike="noStrike" baseline="-25000">
                <a:solidFill>
                  <a:srgbClr val="000000"/>
                </a:solidFill>
                <a:latin typeface="Times New Roman"/>
              </a:rPr>
              <a:t>puieti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( 18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00) : 20 =36600 : 20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30 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28600" y="4952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(1830+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0.99 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16.65 Ron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( 5 buc  rezerv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685800" y="5410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ne grăbim! Răsadul de gard viu se planteaz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în perioada noiembrie – mart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228600" y="548640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8" descr="dscf4267"/>
          <p:cNvPicPr/>
          <p:nvPr/>
        </p:nvPicPr>
        <p:blipFill>
          <a:blip r:embed="rId3"/>
          <a:stretch/>
        </p:blipFill>
        <p:spPr>
          <a:xfrm>
            <a:off x="7461360" y="3809880"/>
            <a:ext cx="1682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7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7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7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700"/>
                            </p:stCondLst>
                            <p:childTnLst>
                              <p:par>
                                <p:cTn id="3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2700"/>
                            </p:stCondLst>
                            <p:childTnLst>
                              <p:par>
                                <p:cTn id="3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228600" y="228600"/>
            <a:ext cx="457200" cy="304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8080" y="7621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0"/>
            <a:ext cx="434340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riunghi dreptungh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u catetele de 22m şi 2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/2 = 2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23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livad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53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stanţa între pomi: 3,5 – 4,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o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53:(4 ·4) = 15,81b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mp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ărăm 18 bu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st = 1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 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14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33520" y="3048120"/>
            <a:ext cx="4343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Viţa de vi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un triunghi dreptunghic şi un trapez dreptung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 / 2 + ( 15 + 6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8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vita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28 m</a:t>
            </a:r>
            <a:r>
              <a:rPr b="1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fructe"/>
          <p:cNvPicPr/>
          <p:nvPr/>
        </p:nvPicPr>
        <p:blipFill>
          <a:blip r:embed="rId2"/>
          <a:stretch/>
        </p:blipFill>
        <p:spPr>
          <a:xfrm>
            <a:off x="4876920" y="304920"/>
            <a:ext cx="4060800" cy="4419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6934320" y="19051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57200" y="4876920"/>
            <a:ext cx="84582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istanţa între rânduri este de  2m şi între viţe 1,5m. Pentru un fir de viţă este nevoie de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,5 = 3 m</a:t>
            </a:r>
            <a:r>
              <a:rPr b="0" lang="ro-RO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Număr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Times New Roman"/>
              </a:rPr>
              <a:t>plant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= 128 : 3 = 42,66. Vom achiziţiona 50 fire de viţ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st =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2 =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00 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52280" y="3048120"/>
            <a:ext cx="457200" cy="3045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90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21:06Z</dcterms:created>
  <dc:creator>maria</dc:creator>
  <dc:description/>
  <dc:language>en-US</dc:language>
  <cp:lastModifiedBy>maria</cp:lastModifiedBy>
  <dcterms:modified xsi:type="dcterms:W3CDTF">2011-02-15T18:17:35Z</dcterms:modified>
  <cp:revision>22</cp:revision>
  <dc:subject/>
  <dc:title>Slide 1</dc:title>
</cp:coreProperties>
</file>